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0191-A3A5-4442-9610-377D9C637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1141-FA6B-49C5-87D8-44F35C69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6175-7396-4656-B1BF-B804E98D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27A2-056B-4CB3-92A6-DBD1F487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E603-80B3-44B5-90FD-648C6895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9D90-9060-4CE4-8143-A8CBEA79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A5F1-FC98-4B65-8FB5-BFE67253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FED7-07D7-4E83-BB0A-0044970A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234D-3162-4D53-AB3B-712846D8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DA2A-04CC-43FC-B444-50017779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A54-3BD5-4200-B0D7-7062467F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6376-E51B-4CFB-BDFC-C1FB4271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5BAB-FEA7-42A9-B84F-70B5243CD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666520"/>
            <a:ext cx="883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99"/>
                </a:solidFill>
                <a:latin typeface="Times New Roman"/>
              </a:rPr>
              <a:t>What is a thesis?</a:t>
            </a:r>
            <a:endParaRPr b="0" lang="en-US" sz="5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380880"/>
            <a:ext cx="4114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cc0099"/>
              </a:buClr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99"/>
                </a:solidFill>
                <a:latin typeface="verdana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11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1500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8000"/>
                </a:solidFill>
                <a:latin typeface="Times New Roman"/>
              </a:rPr>
              <a:t>?</a:t>
            </a:r>
            <a:r>
              <a:rPr b="0" lang="en-US" sz="9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-198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21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9920" indent="-198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99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762120"/>
            <a:ext cx="38098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0066"/>
              </a:buClr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verdana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6600" spc="-1" strike="noStrike">
                <a:solidFill>
                  <a:srgbClr val="008080"/>
                </a:solidFill>
                <a:latin typeface="Courier New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800"/>
              </a:spcBef>
              <a:buClr>
                <a:srgbClr val="000000"/>
              </a:buClr>
              <a:buFont typeface="Times New Roman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           ? ?      </a:t>
            </a:r>
            <a:r>
              <a:rPr b="0" lang="en-US" sz="7200" spc="-1" strike="noStrike">
                <a:solidFill>
                  <a:srgbClr val="339933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2001"/>
              </a:spcBef>
              <a:buClr>
                <a:srgbClr val="800000"/>
              </a:buClr>
              <a:buFont typeface="Arial Black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00000"/>
                </a:solidFill>
                <a:latin typeface="Arial Black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 Black"/>
              </a:rPr>
              <a:t>    </a:t>
            </a:r>
            <a:r>
              <a:rPr b="0" lang="en-US" sz="4800" spc="-1" strike="noStrike">
                <a:solidFill>
                  <a:srgbClr val="3333cc"/>
                </a:solidFill>
                <a:latin typeface="Arial Black"/>
              </a:rPr>
              <a:t>Use your notes to help you get started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ntroductory Paragraph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Times New Roman"/>
              </a:rPr>
              <a:t>Must grab the reader’s attention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Times New Roman"/>
              </a:rPr>
              <a:t>You might: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00"/>
                </a:solidFill>
                <a:latin typeface="Times New Roman"/>
              </a:rPr>
              <a:t>use a quot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cc0000"/>
                </a:solidFill>
                <a:latin typeface="Times New Roman"/>
              </a:rPr>
              <a:t>tell an anecdote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00"/>
                </a:solidFill>
                <a:latin typeface="Times New Roman"/>
              </a:rPr>
              <a:t>relate to real lif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00"/>
                </a:solidFill>
                <a:latin typeface="Times New Roman"/>
              </a:rPr>
              <a:t>discuss the them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00"/>
                </a:solidFill>
                <a:latin typeface="Times New Roman"/>
              </a:rPr>
              <a:t>give author background (if it relates to your thesis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00"/>
                </a:solidFill>
                <a:latin typeface="Times New Roman"/>
              </a:rPr>
              <a:t>provide historical contex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Times New Roman"/>
              </a:rPr>
              <a:t>Thesis statement is the LAST sentence of the introductory paragrap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imes New Roman"/>
              </a:rPr>
              <a:t>Due Monday, 2/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153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 thesis statement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eclares</a:t>
            </a: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 what you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believe</a:t>
            </a: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 and what you intend to 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ro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 thesis . . .</a:t>
            </a:r>
            <a:endParaRPr b="0" lang="en-US" sz="6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. . . is a road map for the paper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It tells the reader what to expect from the rest of the paper and provides a foc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A thesis . . .</a:t>
            </a:r>
            <a:endParaRPr b="0" lang="en-US" sz="6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. . . is an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interpretation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of a subject, not the subject itself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For example, the subject or topic of your paper might be World War II or </a:t>
            </a:r>
            <a:r>
              <a:rPr b="0" i="1" lang="en-US" sz="3600" spc="-1" strike="noStrike">
                <a:solidFill>
                  <a:srgbClr val="ffff66"/>
                </a:solidFill>
                <a:latin typeface="Arial"/>
              </a:rPr>
              <a:t>Of Mice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66"/>
                </a:solidFill>
                <a:latin typeface="Arial"/>
              </a:rPr>
              <a:t>and Men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thesis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offers the reader a way to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understand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the war or the novel.</a:t>
            </a:r>
            <a:r>
              <a:rPr b="0" lang="en-US" sz="3200" spc="-1" strike="noStrike">
                <a:solidFill>
                  <a:srgbClr val="ffff66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The thesis statement is typically located at the ______ of your opening paragraph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 thesis contains:</a:t>
            </a: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cc"/>
                </a:solidFill>
                <a:latin typeface="Times New Roman"/>
              </a:rPr>
              <a:t>Title of the work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cc"/>
                </a:solidFill>
                <a:latin typeface="Times New Roman"/>
              </a:rPr>
              <a:t>Author’s nam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cc"/>
                </a:solidFill>
                <a:latin typeface="Times New Roman"/>
              </a:rPr>
              <a:t>Focu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876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cc"/>
                </a:solidFill>
                <a:latin typeface="Times New Roman"/>
              </a:rPr>
              <a:t>Major idea you want to explor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cc"/>
                </a:solidFill>
                <a:latin typeface="Times New Roman"/>
              </a:rPr>
              <a:t>Two or three supports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876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cc"/>
                </a:solidFill>
                <a:latin typeface="Times New Roman"/>
              </a:rPr>
              <a:t>Literary elements or tags from your not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99072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The Virgin Suic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Jeffrey Eugen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Focus = teenage suic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upports = depression, family influence, perce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Black"/>
              </a:rPr>
              <a:t>Blueprint for your thesis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In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[Title of Work], [Author]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 explains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[focus]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 using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[support 1, support 2,  support 3] 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n </a:t>
            </a:r>
            <a:r>
              <a:rPr b="0" i="1" lang="en-US" sz="3600" spc="-1" strike="noStrike">
                <a:solidFill>
                  <a:srgbClr val="000066"/>
                </a:solidFill>
                <a:latin typeface="Arial"/>
              </a:rPr>
              <a:t>The Virgin Suicides, 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Jeffrey Eugenides discusses the teen suicide phenomenon by examining the girls’ depression, their family relationships and the way they are perceived by the community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You already have a star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imes New Roman"/>
              </a:rPr>
              <a:t>Look over your not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0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imes New Roman"/>
              </a:rPr>
              <a:t>Decide which aspect you wish to be your focus, your main poin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0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imes New Roman"/>
              </a:rPr>
              <a:t>See which tags could work as suppor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10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imes New Roman"/>
              </a:rPr>
              <a:t>Craft everything into a sentenc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In his short story, “The Metamorphosis,” Franz Kafka uses </a:t>
            </a: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symbolism, stream-of-consciousness, and family relationships </a:t>
            </a:r>
            <a:r>
              <a:rPr b="0" lang="en-US" sz="4200" spc="-1" strike="noStrike">
                <a:solidFill>
                  <a:srgbClr val="000099"/>
                </a:solidFill>
                <a:latin typeface="Arial"/>
              </a:rPr>
              <a:t>to develop the theme</a:t>
            </a:r>
            <a:r>
              <a:rPr b="1" lang="en-US" sz="4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0099"/>
                </a:solidFill>
                <a:latin typeface="Arial"/>
              </a:rPr>
              <a:t>of </a:t>
            </a:r>
            <a:r>
              <a:rPr b="1" lang="en-US" sz="4200" spc="-1" strike="noStrike">
                <a:solidFill>
                  <a:srgbClr val="cc0000"/>
                </a:solidFill>
                <a:latin typeface="Arial"/>
              </a:rPr>
              <a:t>alien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01:57:40Z</dcterms:created>
  <dc:creator>Peterson's</dc:creator>
  <dc:description/>
  <dc:language>en-US</dc:language>
  <cp:lastModifiedBy>ASD</cp:lastModifiedBy>
  <dcterms:modified xsi:type="dcterms:W3CDTF">2010-01-27T12:33:41Z</dcterms:modified>
  <cp:revision>38</cp:revision>
  <dc:subject/>
  <dc:title>What is a thesis?</dc:title>
</cp:coreProperties>
</file>